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B3262-6F48-4184-B594-BEC1FB38B6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eacher can monitor for errors and then write these on the board afterwards for peer correc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74EC3-A71F-4330-91BE-29D23A7DDD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f necessary, help learners plan, organise and format the letter. Groups can correct errors in each others’ lett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2B69A-CA21-48D3-B039-0C7F4019FD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earners can select one simplified article to read and compare it to the origin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42A02-61D7-4235-9BBE-5F9957078A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pproximate timings: warmer: discussion (10 mins), error correction (10 mins);  vocabulary: dictation (10 mins), explanation/research (10 mins), word stress (5 mins); pre-reading: predict (10 mins), practice comparatives/superlatives + numbers (10 mins); reading: (10 - 15 mins); speaking/listening: (20 mins); writing: (20 – 30 mins). Total lesson time: around 2 hou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8A36B-17C1-4F70-A1B6-B2D281150D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 teacher can monitor for errors, then write these on the board afterwards to elicit corre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1675F-B586-43F7-9769-224972B5A0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o-operative            to nationalise               resources                  inflation              texti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eaver                   capitalism                    socialism                   community          to empo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elfare state           democracy                   wealth                      credit                  evol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revolution               trading partner             solidarity                   greed                 selfishn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CB9A0-DCC1-46AE-8C01-1F7299D330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eacher can elicit and mark word stress. Then get learners to select pairs of words then explain how they are linked (eg. a 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weaver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works with 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extiles; inflation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nd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 credit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oth relate to money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8535C-C41D-4CD8-AC97-7AC56E35FC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re-reading: learners, in groups, share what they already know and predict what they are about to rea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BB8B4-32CC-4235-8566-7908FDCA22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earners can practice comparatives and superlatives, practice expressing decimals and percentages and find out more about the world context of co-operativ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9EBD6-C221-4F1E-AE4E-5282A4D832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earners could access the articles on-line or you can give out the readings as handou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37AE8-EB28-4B92-912A-44FBC940FB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71EF4-3EC5-4603-8C0C-5683DE705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91D2A-2F24-47DA-A73D-676795C30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8CED3-8C1B-4B8F-A3CF-F5E4C1689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62D63-326F-481E-A91A-2F4184644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CA000-E004-4AF7-8346-9D135751F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1C7E9-E9C5-4F6D-B41F-0EDD96F99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3D33A-2B4D-4C7C-B6E5-2C86BEACA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7EA4C-4CCF-40C8-B7B4-ABF833B69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07612-C9AD-4774-A57D-834B7B240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1B4A3-AA40-4BC2-8D79-48E802DAC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CF815-5341-44DC-97C8-42499F8C3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0ABDE-49BF-402B-977A-63750E79A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79183-67E3-4579-8C16-1C2F05DDD7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197000"/>
            <a:ext cx="77724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alibri"/>
              </a:rPr>
              <a:t>Co-operation or competition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4360" y="2276280"/>
            <a:ext cx="799128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         </a:t>
            </a: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Upper Intermediate   New Internationalist  Easier English ready less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3" descr="cooperation.jpg"/>
          <p:cNvPicPr/>
          <p:nvPr/>
        </p:nvPicPr>
        <p:blipFill>
          <a:blip r:embed="rId1"/>
          <a:stretch/>
        </p:blipFill>
        <p:spPr>
          <a:xfrm>
            <a:off x="136440" y="3351240"/>
            <a:ext cx="3859200" cy="32464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competition.jpg"/>
          <p:cNvPicPr/>
          <p:nvPr/>
        </p:nvPicPr>
        <p:blipFill>
          <a:blip r:embed="rId2"/>
          <a:stretch/>
        </p:blipFill>
        <p:spPr>
          <a:xfrm>
            <a:off x="4543560" y="3645000"/>
            <a:ext cx="4545000" cy="3213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8" descr="new internationalist logo black on white.jpg"/>
          <p:cNvPicPr/>
          <p:nvPr/>
        </p:nvPicPr>
        <p:blipFill>
          <a:blip r:embed="rId3"/>
          <a:stretch/>
        </p:blipFill>
        <p:spPr>
          <a:xfrm>
            <a:off x="5076720" y="333360"/>
            <a:ext cx="3676680" cy="9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peaking and listening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n groups of 4, share the information you have read and discuss the 4 questions agai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history of co-operatives: how / where / when did they st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What are the positives and negatives about co-operativ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Which people started co-operatives, and why? 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( see pictures on next slid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re co-operatives a good idea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Big Thinkers on Co-op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250560" y="981000"/>
            <a:ext cx="424476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Robert Ow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Friedrich Raffeis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Peter Kropotki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648320" y="981000"/>
            <a:ext cx="403848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Lynn Margul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Elinor Ostro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avid Sloan Wils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6" descr="robert owen.jpg"/>
          <p:cNvPicPr/>
          <p:nvPr/>
        </p:nvPicPr>
        <p:blipFill>
          <a:blip r:embed="rId1"/>
          <a:stretch/>
        </p:blipFill>
        <p:spPr>
          <a:xfrm>
            <a:off x="2556000" y="1052640"/>
            <a:ext cx="1065240" cy="11444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7" descr="friedrich raiffeisen.jpg"/>
          <p:cNvPicPr/>
          <p:nvPr/>
        </p:nvPicPr>
        <p:blipFill>
          <a:blip r:embed="rId2"/>
          <a:stretch/>
        </p:blipFill>
        <p:spPr>
          <a:xfrm>
            <a:off x="3059280" y="2781360"/>
            <a:ext cx="1439640" cy="19558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8" descr="peter kropotkin.jpg"/>
          <p:cNvPicPr/>
          <p:nvPr/>
        </p:nvPicPr>
        <p:blipFill>
          <a:blip r:embed="rId3"/>
          <a:stretch/>
        </p:blipFill>
        <p:spPr>
          <a:xfrm>
            <a:off x="1116000" y="5157720"/>
            <a:ext cx="1711440" cy="17002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9" descr="lynne margulis.jpg"/>
          <p:cNvPicPr/>
          <p:nvPr/>
        </p:nvPicPr>
        <p:blipFill>
          <a:blip r:embed="rId4"/>
          <a:stretch/>
        </p:blipFill>
        <p:spPr>
          <a:xfrm>
            <a:off x="6732720" y="907920"/>
            <a:ext cx="2055600" cy="20494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0" descr="elinor ostrom.jpg"/>
          <p:cNvPicPr/>
          <p:nvPr/>
        </p:nvPicPr>
        <p:blipFill>
          <a:blip r:embed="rId5"/>
          <a:stretch/>
        </p:blipFill>
        <p:spPr>
          <a:xfrm>
            <a:off x="7093080" y="2781360"/>
            <a:ext cx="1695240" cy="17082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1" descr="david sloane wilson.jpg"/>
          <p:cNvPicPr/>
          <p:nvPr/>
        </p:nvPicPr>
        <p:blipFill>
          <a:blip r:embed="rId6"/>
          <a:stretch/>
        </p:blipFill>
        <p:spPr>
          <a:xfrm>
            <a:off x="5219640" y="5084640"/>
            <a:ext cx="1513080" cy="15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Writ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magine you have a friend who is interested in starting a co-operative business, but does not know much about co-operativ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n pairs, write a letter to the friend, explaining about their history, how they work and why it would be a good ide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Go to the New Internationalist sit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www.newint.or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d read a) the original articles: http://www.newint.org/themes/politics/economics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d b) the simplified on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http://eewiki.newint.org/index.php/Issue_45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3" descr="new internationalist.jpg"/>
          <p:cNvPicPr/>
          <p:nvPr/>
        </p:nvPicPr>
        <p:blipFill>
          <a:blip r:embed="rId1"/>
          <a:stretch/>
        </p:blipFill>
        <p:spPr>
          <a:xfrm>
            <a:off x="5867280" y="1844640"/>
            <a:ext cx="2200320" cy="20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oday’s lesson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Warmer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: discussion / error corre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Vocabulary extension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: dictation / explanation / research / word str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Pre-reading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: predict focus questions / practise of comparatives and superlativ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Reading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: groups read different tex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Speaking / listening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: share inform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Writing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: pairs write letter to express view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223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000000"/>
                </a:solidFill>
                <a:latin typeface="Calibri"/>
              </a:rPr>
              <a:t>Co-operation</a:t>
            </a:r>
            <a:r>
              <a:rPr b="0" lang="en-GB" sz="72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1" lang="en-GB" sz="7200" spc="-1" strike="noStrike">
                <a:solidFill>
                  <a:srgbClr val="000000"/>
                </a:solidFill>
                <a:latin typeface="Calibri"/>
              </a:rPr>
              <a:t>competition</a:t>
            </a:r>
            <a:r>
              <a:rPr b="0" lang="en-GB" sz="7200" spc="-1" strike="noStrike">
                <a:solidFill>
                  <a:srgbClr val="000000"/>
                </a:solidFill>
                <a:latin typeface="Calibri"/>
              </a:rPr>
              <a:t> – which is best?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3212640"/>
            <a:ext cx="8229600" cy="32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In pairs, discuss which is best in different situations (work, different jobs, education, families/home, food production, international trade, politics etc) – and why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Vocabul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50560" y="1268280"/>
            <a:ext cx="87138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Divide your page into 3: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a) Words I know and can explai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b) Words I half-know but couldn’t explai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c) Words I don’t know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Now listen to your teacher and write the words in a), b) or c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Then ask others in the class / look up in dictionaries to find out the meanings of words you’ve put in b) and c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7138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Now check spelling, meanings and pronunciatio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125000"/>
            <a:ext cx="403848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Calibri"/>
              </a:rPr>
              <a:t>co-operative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Calibri"/>
              </a:rPr>
              <a:t>to nationalize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Calibri"/>
              </a:rPr>
              <a:t>resources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Calibri"/>
              </a:rPr>
              <a:t>inflation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Calibri"/>
              </a:rPr>
              <a:t>textiles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Calibri"/>
              </a:rPr>
              <a:t>weaver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Calibri"/>
              </a:rPr>
              <a:t>capitalism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Calibri"/>
              </a:rPr>
              <a:t>socialism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Calibri"/>
              </a:rPr>
              <a:t>community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Calibri"/>
              </a:rPr>
              <a:t>to empower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648320" y="1052280"/>
            <a:ext cx="403848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Calibri"/>
              </a:rPr>
              <a:t>welfare state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Calibri"/>
              </a:rPr>
              <a:t>democracy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Calibri"/>
              </a:rPr>
              <a:t>wealth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Calibri"/>
              </a:rPr>
              <a:t>credi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Calibri"/>
              </a:rPr>
              <a:t>evolution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Calibri"/>
              </a:rPr>
              <a:t>revolution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Calibri"/>
              </a:rPr>
              <a:t>trading partner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Calibri"/>
              </a:rPr>
              <a:t>solidarity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Calibri"/>
              </a:rPr>
              <a:t>greed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Calibri"/>
              </a:rPr>
              <a:t>selfishness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What do you know about co-operatives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ir history: how / where / when did they st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What are the positives and negatives about co-operativ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Which people started co-operatives, and wh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re co-operatives a good idea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3" descr="survivalcoop.jpg"/>
          <p:cNvPicPr/>
          <p:nvPr/>
        </p:nvPicPr>
        <p:blipFill>
          <a:blip r:embed="rId1"/>
          <a:stretch/>
        </p:blipFill>
        <p:spPr>
          <a:xfrm>
            <a:off x="6012000" y="4508640"/>
            <a:ext cx="3132000" cy="23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ow look at these facts 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bout co-operatives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ttp://www.newint.org/features/2012/07/16/co-ops-the-facts/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pairs, take it in turns to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ll each other a fact from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diagram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3" descr="cooperative facts.jpg"/>
          <p:cNvPicPr/>
          <p:nvPr/>
        </p:nvPicPr>
        <p:blipFill>
          <a:blip r:embed="rId1"/>
          <a:stretch/>
        </p:blipFill>
        <p:spPr>
          <a:xfrm>
            <a:off x="5292720" y="1901880"/>
            <a:ext cx="3503520" cy="49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Content Placeholder 3" descr="cooperative facts.jpg"/>
          <p:cNvPicPr/>
          <p:nvPr/>
        </p:nvPicPr>
        <p:blipFill>
          <a:blip r:embed="rId1"/>
          <a:stretch/>
        </p:blipFill>
        <p:spPr>
          <a:xfrm>
            <a:off x="1835280" y="-68400"/>
            <a:ext cx="4897440" cy="692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Reading / research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n groups of 4, each learner will now read one of the following articl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eewiki.newint.org/index.php/Issue_45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1/ Co-operative revolution part 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2/ Co-operative revolution part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3/ What about co-ops in Cuba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4/ Big thinkers on Co-oper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alibri"/>
              </a:rPr>
              <a:t>All learners make notes on the 4 question on previous slid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3" descr="cooperation groupworkers.jpg"/>
          <p:cNvPicPr/>
          <p:nvPr/>
        </p:nvPicPr>
        <p:blipFill>
          <a:blip r:embed="rId1"/>
          <a:stretch/>
        </p:blipFill>
        <p:spPr>
          <a:xfrm>
            <a:off x="6153120" y="3213000"/>
            <a:ext cx="280656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8T10:14:18Z</dcterms:created>
  <dc:creator>IT Technical Support</dc:creator>
  <dc:description/>
  <dc:language>en-US</dc:language>
  <cp:lastModifiedBy>Mix</cp:lastModifiedBy>
  <dcterms:modified xsi:type="dcterms:W3CDTF">2012-09-20T12:42:37Z</dcterms:modified>
  <cp:revision>20</cp:revision>
  <dc:subject/>
  <dc:title>Co-operation or competition?</dc:title>
</cp:coreProperties>
</file>